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43E-D747-46B8-9720-5C74286B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F0D-3C23-40C3-8EDE-5851821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8ED-C51A-4B8C-8AD4-98B6D810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AC9-2E5B-44E0-AAAB-D0F67359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9762-0692-493A-88FC-0CC139E6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B11C-29C3-4764-8A7E-F023FB0C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D9C1-3630-4B67-B826-6A6CB14F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A99D-8B8C-47BD-BCDD-8732E193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98F5-8E8E-4536-900D-B5BB59A4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C2A3-3EBF-45A4-BE39-93D1E359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B30-CE7C-40CC-830F-06AF76D3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100-E9DE-43A0-965F-D0158165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B6B8-6F84-48CE-B438-B7B23C9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1CD3-C746-4A32-80B5-4FB978AA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2CC7-9744-4927-A261-AD61FCDE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F2D7-8853-4346-96C2-2305A8C4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54F9-848A-4467-BFD2-68D48860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D98-103C-4BC9-BAD2-56752790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5DC-77B4-42E1-8089-A86DAA4E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4B4-9520-4EB7-8C88-FD392C06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A42-65A6-417B-8EFC-E285B728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100-17F4-4B3A-B9EE-88CBB8A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4C7-8486-49A5-B10D-F119AFCC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359-7ED0-4474-878F-3BD5B29B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44F6-6994-4BD0-AA1E-3FB06C6FE0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EF92-33E8-4AFB-9C31-9A9F2D130D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АПУЛОЗНЕ ДЕРМАТО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ОМИНАНТНА  -  ПАП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ПОДЕ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ЕРМАЛНЕ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О-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Molluscum 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Контагиозна –вирусна боле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Многобројне умбиликоване папу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h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:лок. Отварање стерилном игл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Дренирање садржа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Спречити разливање  на здраву кож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Киретажа 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Антисептична  дезинфекциона сред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Тh- спонт.регресија у првих 6 месе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D.Dg. 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errrucae planae juveni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ystae sebac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apillomata acumin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 moll.conta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онтана регрес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ри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иретажа оштром кашик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лектрокоагул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ctus insecti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ixodes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rici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_33_0038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IMGP0473"/>
          <p:cNvPicPr/>
          <p:nvPr/>
        </p:nvPicPr>
        <p:blipFill>
          <a:blip r:embed="rId1"/>
          <a:stretch/>
        </p:blipFill>
        <p:spPr>
          <a:xfrm>
            <a:off x="838080" y="1752480"/>
            <a:ext cx="596448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BUCCALIS EROSIVUS SUSP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IMGP0088"/>
          <p:cNvPicPr/>
          <p:nvPr/>
        </p:nvPicPr>
        <p:blipFill>
          <a:blip r:embed="rId1"/>
          <a:stretch/>
        </p:blipFill>
        <p:spPr>
          <a:xfrm>
            <a:off x="762120" y="1676520"/>
            <a:ext cx="5964120" cy="44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Tahoma"/>
              </a:rPr>
              <a:t>Везикулозне 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esic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Ретикулар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генeрација епидерм.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л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алонскa дегенeрација епидерм.ћe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тиопатогенеза :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одел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erpes simplex labi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 -1  - u 85 %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чајев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-2 -u 15 %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чајев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erpes simplex  genit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-2 – 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старијих 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 HSV-1-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ђ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трећини пацијената рецидиви -2 x годиш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овокативни фактори</a:t>
            </a:r>
            <a:br>
              <a:rPr sz="4400"/>
            </a:b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за рециди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дражаји коже и слузокож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лтраљубичасти зра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емператре и грозн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Јака хладноћ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ормонални поремећа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енс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фе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Имунокомпромит</a:t>
            </a:r>
            <a:r>
              <a:rPr b="0" lang="sr-RS" sz="3600" spc="-1" strike="noStrike">
                <a:solidFill>
                  <a:srgbClr val="333399"/>
                </a:solidFill>
                <a:latin typeface="Tahoma"/>
              </a:rPr>
              <a:t>у</a:t>
            </a: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јући  фактор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IV –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ф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алигне боле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рансплантација орган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истемске терапије цитостатиц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комерна примена К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ндген зрач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тивација виру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VERRUCAE  PLANAE JUVENIL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ДЕЧИЈИ УЗРА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ДОЛЕСЦЕНТИ – РЕЂ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Х.П.В. ТИП 3  и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АПУЛЕ : 1-5 м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боја  нормалне коже или беле каф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остоје и скваме 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ок:  лице и дорзум ша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Dg: molluscum contagio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ЕЧЕЊЕ :спон. регресија,криотерапија,киретаж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марна инфек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кубација од 2 -20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кон примоинфекције –вирус  у сензитивне ганглионе-латент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цидиви  повреме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укет везик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озије и плитке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5 до 8 дана ток боле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следица хипо или хиперпигмент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већање регионалних лимф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авобоља са температур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окализациј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ериорална ре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зокожа носа и ус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ђе периокуларна рег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tomatitis apht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exsudativum multif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emphigus vulga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траепидермалне шупљин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ген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не пливајуће балон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ултинуклеарне гигант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 дну була  садржај за анали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цитодијагнос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SV-2 -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суални пут прено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кубација 3-4 дан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алн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анс,препуцију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елике и мале усниц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аг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тко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жа слика код АИДС болесн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Aciclovir  tabl. a 200 mg. (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5 x дневно у току 5 дан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рапија траје 10 дана код примоинфекције сам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ално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цикловир ун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рапија рецидива  ефикаснија првог дана од појаве промен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цикловир скраћује трајање обољ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њ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венција рецидива није могућ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активација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aricella-Zoster vir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а локализ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ицијално-везик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ирус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Varicella zo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имоинфекција у дечјем доб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ганглионима нерава корен.кичм.можд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активација виру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мањенје имунолошке одбране органииз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фламација сензитивних нерава –јак бо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о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ритем са везику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сле 10 дана крус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станак промена за 3 до 4 недељ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уралгије трају 6 месе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RUBER PLA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ПИДЕРМО-ДЕРМАЛНА ЗАРАВЊЕНА 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РОЗЕ ИЛИ ЉУБИЧАСТЕ БО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ЈАК ПРУР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НА СЛУЗОКОЖИ  УСТА МЛЕЧНО-БЕЛЕ СИТНЕ ПАПУ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омпликациј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имуносупримираних-некр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intercostaliis u 50 %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чајев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sacr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brahi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ophtalmi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trigemi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lumb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DDg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игр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ардиј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леур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и абдом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алергијске 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акт дермат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улозни импети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abl. Zovirax a 800 mg.dn. 5 x 1/10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ан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налгет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тамин 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.z.ophtalm. и H.z.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оком.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ovirax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се даје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yndroma  PHN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интракутане инекције са кортизоном или лидокаином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4" descr="__1_0094"/>
          <p:cNvPicPr/>
          <p:nvPr/>
        </p:nvPicPr>
        <p:blipFill>
          <a:blip r:embed="rId1"/>
          <a:stretch/>
        </p:blipFill>
        <p:spPr>
          <a:xfrm>
            <a:off x="91440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__9_0014"/>
          <p:cNvPicPr/>
          <p:nvPr/>
        </p:nvPicPr>
        <p:blipFill>
          <a:blip r:embed="rId1"/>
          <a:stretch/>
        </p:blipFill>
        <p:spPr>
          <a:xfrm>
            <a:off x="91440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__4_0010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__2_0095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__1_0094"/>
          <p:cNvPicPr/>
          <p:nvPr/>
        </p:nvPicPr>
        <p:blipFill>
          <a:blip r:embed="rId1"/>
          <a:stretch/>
        </p:blipFill>
        <p:spPr>
          <a:xfrm>
            <a:off x="83808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епозн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апуле величине:  1 – 10 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Wickham-ове стр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окализа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Флексорне ст.доруч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еримал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р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умбал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Остале рег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ице поштеђе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јединачне и моза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ерималео. и претиби. предели – хипертроф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мушкараца –ануларни облик на генит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ебнер-ов феномен –линеар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апилицијум- иреверзибилна алопе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ти-лонгитудиналне браз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40-60 % болесника – пром. на слузоко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лузокoж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укална-беличаста мреж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Језик- леукоплак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с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ингиве- пигмента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ђе генитална слузоко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chen buccalis erosiv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укално,на језику и гингив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укоплакије,ерозије и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D D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soriasis  vulg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chen simplex chronicus –Wi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 л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ално: КС-под оклузиј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UVA-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вoр циклoспoрина –испирање букал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ОПШТА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КС,Ретиноиди,Циклоспорин,Транкилизан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STROPHULUS  INFANT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УРИГИНОЗ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једи инсеката-комарци и бу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оминантна ефлор. серо-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.-руке и ноге,ређе дланови и таб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ти,деца, од 2-6-те године жив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лет папулозног осипа- траје нек.да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ундарни импет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Заштит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нсеката –де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Autan sprey  seu unguent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Б м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2 % раствор еоз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нтипруритик: 1 % ментол у миксту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stic</cp:lastModifiedBy>
  <dcterms:modified xsi:type="dcterms:W3CDTF">2019-01-22T10:15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